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18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gif" ContentType="image/gif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gif" ContentType="image/gif"/>
  <Override PartName="/ppt/media/image8.jpeg" ContentType="image/jpeg"/>
  <Override PartName="/ppt/media/image10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E3B8-D198-44FD-B459-45BFF1B6E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9CC1-60C1-4179-8671-D0965A1D0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76B5-2614-436B-AB02-4E41A5D16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41E1-2FB8-45CB-A8D6-88BBAB769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68E20-2963-4C11-8218-6D384760A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90488-6BB4-4686-A5C5-91074BD15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9BF51-082E-4CFD-AFDB-5697484A5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77472-1FAB-4261-BFE7-AC36C3B79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41B83-3590-4223-818A-8A5AAB6C0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3FE54-374F-47B7-BF0B-99563B55A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C0322-67D3-4F8A-9636-A7EC0B8D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D4D0-9977-477E-BAE6-06B5AF81F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DCE30-EC94-4355-8D69-68D1DDEB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90BA8-25B9-456D-8F8E-A87E0991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F620A-B2B2-4BFA-ACF4-FD0472271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7D9CC-0302-48B6-A4C5-5F40A171E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E2B7D-604B-4D10-A73C-799AEB55B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3792-4048-478B-8334-B15FC0E0C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86AA-BA29-470E-9306-47DD52964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68A3-C3CE-45C5-A351-74ED6DEE3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ADE7-30DE-43EA-83A7-B78A2C85E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F819-DD45-4C7F-87D7-C2F61BEB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CF04-7463-4E37-9615-614BFE0F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9A8F-B5B1-4B70-976A-9D28CAB6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405BB-BD31-4D95-AD1F-F768BA8DCF0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C0F5B-CABA-4148-908A-78BB83A6A9F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476360" y="3071520"/>
            <a:ext cx="6400800" cy="189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едай шифровк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7" descr="56r4"/>
          <p:cNvPicPr/>
          <p:nvPr/>
        </p:nvPicPr>
        <p:blipFill>
          <a:blip r:embed="rId1"/>
          <a:stretch/>
        </p:blipFill>
        <p:spPr>
          <a:xfrm>
            <a:off x="4071960" y="478620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111" name="WordArt 9"/>
          <p:cNvSpPr txBox="1"/>
          <p:nvPr/>
        </p:nvSpPr>
        <p:spPr>
          <a:xfrm>
            <a:off x="857160" y="549360"/>
            <a:ext cx="7715520" cy="189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екартова система координат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Галерея рисунков на координатной плоскост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3" name="Picture 3" descr="C:\Documents and Settings\мама\Мои документы\Мои результаты сканировани\2010-01 (янв)\сканирование0014.jpg"/>
          <p:cNvPicPr/>
          <p:nvPr/>
        </p:nvPicPr>
        <p:blipFill>
          <a:blip r:embed="rId1"/>
          <a:stretch/>
        </p:blipFill>
        <p:spPr>
          <a:xfrm>
            <a:off x="1143000" y="2000160"/>
            <a:ext cx="72151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8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Галерея рисунков на координатной плоскост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5" name="Picture 5" descr="C:\Documents and Settings\мама\Мои документы\Мои результаты сканировани\2010-01 (янв)\сканирование0007.jpg"/>
          <p:cNvPicPr/>
          <p:nvPr/>
        </p:nvPicPr>
        <p:blipFill>
          <a:blip r:embed="rId1"/>
          <a:stretch/>
        </p:blipFill>
        <p:spPr>
          <a:xfrm>
            <a:off x="1285920" y="2071800"/>
            <a:ext cx="6381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8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Галерея рисунков на координатной плоскост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7" name="Picture 3" descr="C:\Documents and Settings\мама\Мои документы\Мои результаты сканировани\2010-01 (янв)\сканирование0002.jpg"/>
          <p:cNvPicPr/>
          <p:nvPr/>
        </p:nvPicPr>
        <p:blipFill>
          <a:blip r:embed="rId1"/>
          <a:stretch/>
        </p:blipFill>
        <p:spPr>
          <a:xfrm>
            <a:off x="1357200" y="2214720"/>
            <a:ext cx="6094440" cy="40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8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Галерея рисунков на координатной плоскост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9" name="Picture 4" descr="C:\Documents and Settings\мама\Мои документы\Мои результаты сканировани\2010-01 (янв)\сканирование0006.jpg"/>
          <p:cNvPicPr/>
          <p:nvPr/>
        </p:nvPicPr>
        <p:blipFill>
          <a:blip r:embed="rId1"/>
          <a:stretch/>
        </p:blipFill>
        <p:spPr>
          <a:xfrm>
            <a:off x="1357200" y="1928880"/>
            <a:ext cx="519444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8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Галерея рисунков на координатной плоскост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1" name="Picture 3" descr="C:\Documents and Settings\мама\Мои документы\Мои результаты сканировани\2010-01 (янв)\сканирование0009.jpg"/>
          <p:cNvPicPr/>
          <p:nvPr/>
        </p:nvPicPr>
        <p:blipFill>
          <a:blip r:embed="rId1"/>
          <a:stretch/>
        </p:blipFill>
        <p:spPr>
          <a:xfrm>
            <a:off x="285840" y="1785960"/>
            <a:ext cx="849780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Галерея рисунков на координатной плоскост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3" name="Picture 2" descr="C:\Documents and Settings\мама\Мои документы\Мои результаты сканировани\2010-01 (янв)\сканирование0004.jpg"/>
          <p:cNvPicPr/>
          <p:nvPr/>
        </p:nvPicPr>
        <p:blipFill>
          <a:blip r:embed="rId1"/>
          <a:stretch/>
        </p:blipFill>
        <p:spPr>
          <a:xfrm>
            <a:off x="1714680" y="2428920"/>
            <a:ext cx="52876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8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Галерея рисунков на координатной плоскост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5" name="Picture 2" descr="C:\Documents and Settings\мама\Мои документы\Мои результаты сканировани\2010-01 (янв)\сканирование0008.jpg"/>
          <p:cNvPicPr/>
          <p:nvPr/>
        </p:nvPicPr>
        <p:blipFill>
          <a:blip r:embed="rId1"/>
          <a:stretch/>
        </p:blipFill>
        <p:spPr>
          <a:xfrm>
            <a:off x="1714680" y="1928880"/>
            <a:ext cx="5286240" cy="47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8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Галерея рисунков на координатной плоскост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7" name="Picture 2" descr="C:\Documents and Settings\мама\Мои документы\Мои результаты сканировани\2010-01 (янв)\сканирование0013.jpg"/>
          <p:cNvPicPr/>
          <p:nvPr/>
        </p:nvPicPr>
        <p:blipFill>
          <a:blip r:embed="rId1"/>
          <a:stretch/>
        </p:blipFill>
        <p:spPr>
          <a:xfrm>
            <a:off x="2000160" y="2071800"/>
            <a:ext cx="4429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8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Галерея рисунков на координатной плоскост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9" name="Picture 2" descr="C:\Documents and Settings\мама\Мои документы\Мои результаты сканировани\2010-01 (янв)\сканирование0011.jpg"/>
          <p:cNvPicPr/>
          <p:nvPr/>
        </p:nvPicPr>
        <p:blipFill>
          <a:blip r:embed="rId1"/>
          <a:stretch/>
        </p:blipFill>
        <p:spPr>
          <a:xfrm>
            <a:off x="1714680" y="2286000"/>
            <a:ext cx="483696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8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55280" y="980640"/>
            <a:ext cx="7543800" cy="419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Пока мы делали этот проект, мы узнали, что такое система координат, оси координат, как находить точку по координатам. А самое главное – мы научились рисовать с помощью координат, это нам показалось очень интересным, увлекательным, кроме того мы этим закрепили тему координатная плоскость и не будем делать в дальнейшем ошибок. </a:t>
            </a:r>
            <a:br>
              <a:rPr sz="3600"/>
            </a:br>
            <a:r>
              <a:rPr b="1" lang="ru-RU" sz="3600" spc="-1" strike="noStrike">
                <a:solidFill>
                  <a:srgbClr val="eaeaea"/>
                </a:solidFill>
                <a:latin typeface="Tahoma"/>
              </a:rPr>
              <a:t>  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1" name="Picture 8" descr="AG00011_"/>
          <p:cNvPicPr/>
          <p:nvPr/>
        </p:nvPicPr>
        <p:blipFill>
          <a:blip r:embed="rId1"/>
          <a:stretch/>
        </p:blipFill>
        <p:spPr>
          <a:xfrm>
            <a:off x="7257960" y="4727520"/>
            <a:ext cx="188604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4800" spc="-1" strike="noStrike">
                <a:solidFill>
                  <a:srgbClr val="ffffff"/>
                </a:solidFill>
                <a:latin typeface="Tahoma"/>
              </a:rPr>
              <a:t>Можно ли зашифровать рисунок с помощью координатной прямой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6" descr="test"/>
          <p:cNvPicPr/>
          <p:nvPr/>
        </p:nvPicPr>
        <p:blipFill>
          <a:blip r:embed="rId1"/>
          <a:stretch/>
        </p:blipFill>
        <p:spPr>
          <a:xfrm>
            <a:off x="6858000" y="1341360"/>
            <a:ext cx="228600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00" y="304560"/>
            <a:ext cx="8429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рямоугольная система координат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71360" y="19288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Рисунок 2" descr="систкор"/>
          <p:cNvPicPr/>
          <p:nvPr/>
        </p:nvPicPr>
        <p:blipFill>
          <a:blip r:embed="rId1"/>
          <a:stretch/>
        </p:blipFill>
        <p:spPr>
          <a:xfrm>
            <a:off x="1714680" y="1835280"/>
            <a:ext cx="6215040" cy="40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рямоугольная система координат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4" descr="C:\Documents and Settings\мама\Рабочий стол\Координатная плоскость\Декар сист координат рисунки\точка с координ.jpg"/>
          <p:cNvPicPr/>
          <p:nvPr/>
        </p:nvPicPr>
        <p:blipFill>
          <a:blip r:embed="rId1"/>
          <a:stretch/>
        </p:blipFill>
        <p:spPr>
          <a:xfrm>
            <a:off x="2786040" y="2500200"/>
            <a:ext cx="483876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28400" y="3214440"/>
            <a:ext cx="8429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я определения координаты точки А опускаем перпендикуляр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ось абсцисс – Ох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 ось ординат – Оу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лученная пара чисел (2;3) и есть декартовые координат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очки А (2;3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Рисунок 1" descr="прим"/>
          <p:cNvPicPr/>
          <p:nvPr/>
        </p:nvPicPr>
        <p:blipFill>
          <a:blip r:embed="rId1"/>
          <a:stretch/>
        </p:blipFill>
        <p:spPr>
          <a:xfrm>
            <a:off x="1000080" y="214200"/>
            <a:ext cx="592920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5438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Рисунки на координатной плоскости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85840" y="1213920"/>
            <a:ext cx="83296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координатной плоскости построить точки по заданным координатам и последовательно соединить их отрезкам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;6),  (-4;6),  (-4;0)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0;0),   (0;-3),  (-2;-3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-2;-2),   (-4;-2),  (-4;-4)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-3;-5),  (1;-5),  (2;-4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;1),  (1;2),  (-2;2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-2;4),  (2;4),  (2;6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5" descr="97"/>
          <p:cNvPicPr/>
          <p:nvPr/>
        </p:nvPicPr>
        <p:blipFill>
          <a:blip r:embed="rId1"/>
          <a:stretch/>
        </p:blipFill>
        <p:spPr>
          <a:xfrm rot="21132000">
            <a:off x="6587640" y="5024160"/>
            <a:ext cx="150516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714560" y="1428840"/>
            <a:ext cx="3895560" cy="35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Вот такая фигура должна получитс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7" name="Picture 1" descr="C:\Documents and Settings\мама\Мои документы\Мои результаты сканировани\2010-01 (янв)\сканирование0001.jpg"/>
          <p:cNvPicPr/>
          <p:nvPr/>
        </p:nvPicPr>
        <p:blipFill>
          <a:blip r:embed="rId1"/>
          <a:stretch/>
        </p:blipFill>
        <p:spPr>
          <a:xfrm>
            <a:off x="1357200" y="1143000"/>
            <a:ext cx="284652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1"/>
          <p:cNvSpPr/>
          <p:nvPr/>
        </p:nvSpPr>
        <p:spPr>
          <a:xfrm flipH="1">
            <a:off x="8714520" y="642960"/>
            <a:ext cx="7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56760" y="0"/>
            <a:ext cx="85726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координатной плоскости построить точки по заданным координатам и последовательно соединить их отрезками.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;5),  (8;5),  (9;6),  (9;3),  (8;1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6;2),  (7;1),  (1;1),  (1;0), (10;-1)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3;0),  (14;3),  (14;1),  (13;-1),  (10;-2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0;-3),  (12;-5),  (11;-8 ),  (9;-8),  (10;-6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8;-5),  (8;-7),  (7;-8),  (5;-8),  (6;-7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6;-5),  (3;-5), (3;-8), (1;-8),  (0;-5),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-1;-7),  (-3;-8),  (-3;3),  (-4;3),  (-4;-3)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-5;-4),    (-7;-4),  (-7;4),  (-6;6),  (-4;6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-4;8),  (-2;9),  (0;9),  (2;7),  (2;5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C:\Documents and Settings\мама\Мои документы\Мои результаты сканировани\2010-01 (янв)\сканирование0003.jpg"/>
          <p:cNvPicPr/>
          <p:nvPr/>
        </p:nvPicPr>
        <p:blipFill>
          <a:blip r:embed="rId1"/>
          <a:stretch/>
        </p:blipFill>
        <p:spPr>
          <a:xfrm>
            <a:off x="5072040" y="2000160"/>
            <a:ext cx="3143160" cy="311328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3"/>
          <p:cNvSpPr/>
          <p:nvPr/>
        </p:nvSpPr>
        <p:spPr>
          <a:xfrm>
            <a:off x="714240" y="1071720"/>
            <a:ext cx="35719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 все правильно и аккуратно выполнили, должен получится такой рисуно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8T15:42:54Z</dcterms:created>
  <dc:creator>1</dc:creator>
  <dc:description/>
  <dc:language>en-US</dc:language>
  <cp:lastModifiedBy>Nicolai</cp:lastModifiedBy>
  <dcterms:modified xsi:type="dcterms:W3CDTF">2011-06-09T10:11:01Z</dcterms:modified>
  <cp:revision>86</cp:revision>
  <dc:subject/>
  <dc:title>Слайд 1</dc:title>
</cp:coreProperties>
</file>